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kid%20yeah.wav" ContentType="audio/x-wav"/>
  <Override PartName="/ppt/media/CHIMES.WAV" ContentType="audio/x-wav"/>
  <Override PartName="/ppt/media/EXPLODE.WAV" ContentType="audio/x-wav"/>
  <Override PartName="/ppt/media/RICOCHET.WAV" ContentType="audio/x-wav"/>
  <Override PartName="/ppt/media/hzipup01.wav" ContentType="audio/x-wav"/>
  <Override PartName="/ppt/media/children%20wow.wav" ContentType="audio/x-wav"/>
  <Override PartName="/ppt/media/DRIVEBY.WAV" ContentType="audio/x-wav"/>
  <Override PartName="/ppt/media/bserie06.wav" ContentType="audio/x-wav"/>
  <Override PartName="/ppt/media/jetflyby2.wav" ContentType="audio/x-wav"/>
  <Override PartName="/ppt/media/caralarmoff.wav" ContentType="audio/x-wav"/>
  <Override PartName="/ppt/media/highchime.wav" ContentType="audio/x-wav"/>
  <Override PartName="/ppt/media/GUNSHOT.WAV" ContentType="audio/x-wav"/>
  <Override PartName="/ppt/media/zipdn102.wav" ContentType="audio/x-wav"/>
  <Override PartName="/ppt/media/LASER.WAV" ContentType="audio/x-wav"/>
  <Override PartName="/ppt/media/CASHREG.WAV" ContentType="audio/x-wav"/>
  <Override PartName="/ppt/media/CAMERA.WAV" ContentType="audio/x-wav"/>
  <Override PartName="/ppt/media/CARBRAKE.WAV" ContentType="audio/x-wav"/>
  <Override PartName="/ppt/media/WHOOSH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FCA-75EC-4163-A8C5-CB4AE1F0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3D6-578D-4732-8C50-EDA0ADCE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A56A-9B76-49D5-BC94-ECD9194E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0748-1A78-4B08-A458-9C69D5ED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410-65FF-4421-9699-895DCAF9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4B3A-B61B-4559-9CBE-0F76D904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6922-6722-46A3-92A3-0C662572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D002-1DD4-48FB-994D-5DE39738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1F18-33EA-4C02-BC3E-3B93015E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7DE4-714F-42BE-97FC-7C63508B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69E5-EA06-4504-AD1B-63138D3F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C5C8-F9EA-4044-AE50-3015524F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AFB3-ACB1-4E2D-B476-2F47C0087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GUNSHOT.WAV"/><Relationship Id="rId3" Type="http://schemas.openxmlformats.org/officeDocument/2006/relationships/audio" Target="../media/CARBRAKE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bserie06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bserie06.wav"/><Relationship Id="rId20" Type="http://schemas.openxmlformats.org/officeDocument/2006/relationships/audio" Target="../media/RICOCHET.WAV"/><Relationship Id="rId21" Type="http://schemas.openxmlformats.org/officeDocument/2006/relationships/audio" Target="../media/RICOCHET.WAV"/><Relationship Id="rId22" Type="http://schemas.openxmlformats.org/officeDocument/2006/relationships/audio" Target="../media/children%20wow.wav"/><Relationship Id="rId2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bserie06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bserie06.wav"/><Relationship Id="rId22" Type="http://schemas.openxmlformats.org/officeDocument/2006/relationships/audio" Target="../media/LASER.WAV"/><Relationship Id="rId23" Type="http://schemas.openxmlformats.org/officeDocument/2006/relationships/audio" Target="../media/children%20wow.wav"/><Relationship Id="rId2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hzipup01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DRIVEBY.WAV"/><Relationship Id="rId13" Type="http://schemas.openxmlformats.org/officeDocument/2006/relationships/audio" Target="../media/CARBRAKE.WAV"/><Relationship Id="rId14" Type="http://schemas.openxmlformats.org/officeDocument/2006/relationships/audio" Target="../media/CARBRAKE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children%20wow.wav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jetflyby2.wav"/><Relationship Id="rId5" Type="http://schemas.openxmlformats.org/officeDocument/2006/relationships/audio" Target="../media/hzipup01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hzipup01.wav"/><Relationship Id="rId10" Type="http://schemas.openxmlformats.org/officeDocument/2006/relationships/audio" Target="../media/jetflyby2.wav"/><Relationship Id="rId11" Type="http://schemas.openxmlformats.org/officeDocument/2006/relationships/audio" Target="../media/hzipup01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bserie06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bserie06.wav"/><Relationship Id="rId25" Type="http://schemas.openxmlformats.org/officeDocument/2006/relationships/audio" Target="../media/LASER.WAV"/><Relationship Id="rId26" Type="http://schemas.openxmlformats.org/officeDocument/2006/relationships/audio" Target="../media/children%20wow.wav"/><Relationship Id="rId2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RBRAKE.WAV"/><Relationship Id="rId3" Type="http://schemas.openxmlformats.org/officeDocument/2006/relationships/audio" Target="../media/DRIVEBY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SHREG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GUNSHOT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GUNSHOT.WAV"/><Relationship Id="rId16" Type="http://schemas.openxmlformats.org/officeDocument/2006/relationships/audio" Target="../media/LASER.WAV"/><Relationship Id="rId17" Type="http://schemas.openxmlformats.org/officeDocument/2006/relationships/audio" Target="../media/kid%20yeah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EXPLODE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EXPLODE.WAV"/><Relationship Id="rId13" Type="http://schemas.openxmlformats.org/officeDocument/2006/relationships/audio" Target="../media/RICOCHET.WAV"/><Relationship Id="rId14" Type="http://schemas.openxmlformats.org/officeDocument/2006/relationships/audio" Target="../media/RICOCHET.WAV"/><Relationship Id="rId15" Type="http://schemas.openxmlformats.org/officeDocument/2006/relationships/audio" Target="../media/kid%20yeah.wav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DRIVEBY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DRIVEBY.WAV"/><Relationship Id="rId12" Type="http://schemas.openxmlformats.org/officeDocument/2006/relationships/audio" Target="../media/CARBRAKE.WAV"/><Relationship Id="rId13" Type="http://schemas.openxmlformats.org/officeDocument/2006/relationships/audio" Target="../media/CARBRAKE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kid%20yeah.wav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bserie06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bserie06.wav"/><Relationship Id="rId29" Type="http://schemas.openxmlformats.org/officeDocument/2006/relationships/audio" Target="../media/LASER.WAV"/><Relationship Id="rId30" Type="http://schemas.openxmlformats.org/officeDocument/2006/relationships/audio" Target="../media/children%20wow.wav"/><Relationship Id="rId3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audio" Target="../media/bserie06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bserie06.wav"/><Relationship Id="rId20" Type="http://schemas.openxmlformats.org/officeDocument/2006/relationships/audio" Target="../media/RICOCHET.WAV"/><Relationship Id="rId21" Type="http://schemas.openxmlformats.org/officeDocument/2006/relationships/audio" Target="../media/RICOCHET.WAV"/><Relationship Id="rId22" Type="http://schemas.openxmlformats.org/officeDocument/2006/relationships/audio" Target="../media/children%20wow.wav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bserie06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bserie06.wav"/><Relationship Id="rId27" Type="http://schemas.openxmlformats.org/officeDocument/2006/relationships/audio" Target="../media/LASER.WAV"/><Relationship Id="rId28" Type="http://schemas.openxmlformats.org/officeDocument/2006/relationships/audio" Target="../media/children%20wow.wav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1523880"/>
            <a:ext cx="3276720" cy="12956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3657600"/>
            <a:ext cx="3276720" cy="12952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2819520"/>
            <a:ext cx="327672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962520" y="3657600"/>
            <a:ext cx="4952520" cy="2133360"/>
            <a:chOff x="3962520" y="3657600"/>
            <a:chExt cx="4952520" cy="2133360"/>
          </a:xfrm>
        </p:grpSpPr>
        <p:sp>
          <p:nvSpPr>
            <p:cNvPr id="47" name=""/>
            <p:cNvSpPr/>
            <p:nvPr/>
          </p:nvSpPr>
          <p:spPr>
            <a:xfrm>
              <a:off x="4800600" y="4952880"/>
              <a:ext cx="3276000" cy="838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62520" y="3657600"/>
              <a:ext cx="838080" cy="129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076960" y="3657600"/>
              <a:ext cx="838080" cy="129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0" y="1600200"/>
            <a:ext cx="4495680" cy="2257920"/>
            <a:chOff x="0" y="1600200"/>
            <a:chExt cx="4495680" cy="2257920"/>
          </a:xfrm>
        </p:grpSpPr>
        <p:grpSp>
          <p:nvGrpSpPr>
            <p:cNvPr id="51" name=""/>
            <p:cNvGrpSpPr/>
            <p:nvPr/>
          </p:nvGrpSpPr>
          <p:grpSpPr>
            <a:xfrm>
              <a:off x="457200" y="1600200"/>
              <a:ext cx="3733920" cy="1752480"/>
              <a:chOff x="457200" y="1600200"/>
              <a:chExt cx="3733920" cy="1752480"/>
            </a:xfrm>
          </p:grpSpPr>
          <p:sp>
            <p:nvSpPr>
              <p:cNvPr id="52" name=""/>
              <p:cNvSpPr/>
              <p:nvPr/>
            </p:nvSpPr>
            <p:spPr>
              <a:xfrm>
                <a:off x="457200" y="1600200"/>
                <a:ext cx="3733920" cy="1752480"/>
              </a:xfrm>
              <a:prstGeom prst="cube">
                <a:avLst>
                  <a:gd name="adj" fmla="val 25000"/>
                </a:avLst>
              </a:prstGeom>
              <a:solidFill>
                <a:srgbClr val="ff99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14400" y="1600200"/>
                <a:ext cx="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>
                <a:off x="914400" y="2895480"/>
                <a:ext cx="327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457200" y="2895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828800" y="3276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09880" y="2895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3623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010200" y="1905120"/>
            <a:ext cx="6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l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7320" y="4038480"/>
            <a:ext cx="6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l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75360" y="297180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 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7320" y="510552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 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78760" y="396252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h 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9920" y="396252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h 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33520" y="5791320"/>
                <a:ext cx="647676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h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h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598760" y="6240600"/>
                <a:ext cx="43448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719280"/>
            <a:ext cx="9144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for each space figure. If the answer is not a whole number round to the nearest tenth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828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18288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8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2819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6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396252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h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464832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(    )(     )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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988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.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4724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.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0572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.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76520" y="51814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(         )(      ) + (       )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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2578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2.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5257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467480" y="52578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48520" y="5257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.7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58672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             +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95840" y="5867280"/>
            <a:ext cx="183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9.33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3240" y="5867280"/>
            <a:ext cx="183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8.08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58672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= 87.4 m </a:t>
            </a:r>
            <a:r>
              <a:rPr b="1" lang="en-US" sz="3200" spc="-1" strike="noStrike" baseline="60000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" y="3581280"/>
            <a:ext cx="1828800" cy="533520"/>
          </a:xfrm>
          <a:prstGeom prst="ellipse">
            <a:avLst/>
          </a:prstGeom>
          <a:solidFill>
            <a:srgbClr val="ffcc99">
              <a:alpha val="7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" y="1828800"/>
            <a:ext cx="1828800" cy="2286000"/>
          </a:xfrm>
          <a:prstGeom prst="can">
            <a:avLst>
              <a:gd name="adj" fmla="val 25000"/>
            </a:avLst>
          </a:prstGeom>
          <a:solidFill>
            <a:srgbClr val="ffcc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2133720"/>
            <a:ext cx="18288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78" idx="0"/>
          </p:cNvCxnSpPr>
          <p:nvPr/>
        </p:nvCxnSpPr>
        <p:spPr>
          <a:xfrm rot="5400000">
            <a:off x="2788560" y="1314360"/>
            <a:ext cx="240480" cy="1269360"/>
          </a:xfrm>
          <a:prstGeom prst="curvedConnector5">
            <a:avLst>
              <a:gd name="adj1" fmla="val -95352"/>
              <a:gd name="adj2" fmla="val 49985"/>
              <a:gd name="adj3" fmla="val -9535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719280"/>
            <a:ext cx="9144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for each space figure. If the answer is not a whole number round to the nearest tenth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8288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1752480"/>
            <a:ext cx="2286000" cy="2895840"/>
          </a:xfrm>
          <a:prstGeom prst="cube">
            <a:avLst>
              <a:gd name="adj" fmla="val 25000"/>
            </a:avLst>
          </a:prstGeom>
          <a:solidFill>
            <a:srgbClr val="ccccff">
              <a:alpha val="3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00200" y="220968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57400" y="1676520"/>
            <a:ext cx="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990360" y="19810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590560" y="205740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2895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4572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743200" y="5181480"/>
                <a:ext cx="48020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447920" y="5943600"/>
                <a:ext cx="63608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2743200" y="59436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29000" y="5943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67080" y="59436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05520" y="5943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19920" y="5943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59436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086360" y="2133720"/>
                <a:ext cx="4824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5180040" y="3048120"/>
                <a:ext cx="25192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019840" y="3809880"/>
                <a:ext cx="33242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56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m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5410080" y="21337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4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53080" y="21337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9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772400" y="21337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9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30481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719280"/>
            <a:ext cx="9144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for each space figure. If the answer is not a whole number round to the nearest tenth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1981080"/>
            <a:ext cx="5639040" cy="2593080"/>
            <a:chOff x="152280" y="1981080"/>
            <a:chExt cx="5639040" cy="2593080"/>
          </a:xfrm>
        </p:grpSpPr>
        <p:sp>
          <p:nvSpPr>
            <p:cNvPr id="326" name=""/>
            <p:cNvSpPr/>
            <p:nvPr/>
          </p:nvSpPr>
          <p:spPr>
            <a:xfrm>
              <a:off x="152280" y="350496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457200" y="1981080"/>
              <a:ext cx="5334120" cy="2593080"/>
              <a:chOff x="457200" y="1981080"/>
              <a:chExt cx="5334120" cy="2593080"/>
            </a:xfrm>
          </p:grpSpPr>
          <p:sp>
            <p:nvSpPr>
              <p:cNvPr id="328" name=""/>
              <p:cNvSpPr/>
              <p:nvPr/>
            </p:nvSpPr>
            <p:spPr>
              <a:xfrm>
                <a:off x="1143000" y="3047760"/>
                <a:ext cx="4648320" cy="1143000"/>
              </a:xfrm>
              <a:custGeom>
                <a:avLst/>
                <a:gdLst/>
                <a:ahLst/>
                <a:rect l="l" t="t" r="r" b="b"/>
                <a:pathLst>
                  <a:path w="2928" h="720">
                    <a:moveTo>
                      <a:pt x="0" y="720"/>
                    </a:moveTo>
                    <a:lnTo>
                      <a:pt x="1488" y="0"/>
                    </a:lnTo>
                    <a:lnTo>
                      <a:pt x="2928" y="0"/>
                    </a:lnTo>
                    <a:lnTo>
                      <a:pt x="1392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143000" y="3352680"/>
                <a:ext cx="2286000" cy="838080"/>
              </a:xfrm>
              <a:prstGeom prst="rtTriangle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505320" y="2209680"/>
                <a:ext cx="2286000" cy="838080"/>
              </a:xfrm>
              <a:prstGeom prst="rtTriangle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143000" y="2209680"/>
                <a:ext cx="2362320" cy="1981080"/>
              </a:xfrm>
              <a:custGeom>
                <a:avLst/>
                <a:gdLst/>
                <a:ahLst/>
                <a:rect l="l" t="t" r="r" b="b"/>
                <a:pathLst>
                  <a:path w="1488" h="1248">
                    <a:moveTo>
                      <a:pt x="0" y="1248"/>
                    </a:moveTo>
                    <a:lnTo>
                      <a:pt x="0" y="720"/>
                    </a:lnTo>
                    <a:lnTo>
                      <a:pt x="1488" y="0"/>
                    </a:lnTo>
                    <a:lnTo>
                      <a:pt x="1488" y="528"/>
                    </a:lnTo>
                    <a:lnTo>
                      <a:pt x="0" y="1248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43000" y="2209680"/>
                <a:ext cx="4648320" cy="1981080"/>
              </a:xfrm>
              <a:custGeom>
                <a:avLst/>
                <a:gdLst/>
                <a:ahLst/>
                <a:rect l="l" t="t" r="r" b="b"/>
                <a:pathLst>
                  <a:path w="2928" h="1248">
                    <a:moveTo>
                      <a:pt x="0" y="720"/>
                    </a:moveTo>
                    <a:lnTo>
                      <a:pt x="1488" y="0"/>
                    </a:lnTo>
                    <a:lnTo>
                      <a:pt x="2928" y="528"/>
                    </a:lnTo>
                    <a:lnTo>
                      <a:pt x="1392" y="1248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371600" y="411444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 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19320" y="24382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7 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38480" y="220968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 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57200" y="19810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2095560" y="1905120"/>
            <a:ext cx="6819840" cy="2209320"/>
            <a:chOff x="2095560" y="1905120"/>
            <a:chExt cx="6819840" cy="2209320"/>
          </a:xfrm>
        </p:grpSpPr>
        <p:sp>
          <p:nvSpPr>
            <p:cNvPr id="338" name=""/>
            <p:cNvSpPr/>
            <p:nvPr/>
          </p:nvSpPr>
          <p:spPr>
            <a:xfrm>
              <a:off x="6172200" y="190512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two right triangles will form a recta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9" name=""/>
            <p:cNvCxnSpPr>
              <a:stCxn id="335" idx="1"/>
              <a:endCxn id="338" idx="1"/>
            </p:cNvCxnSpPr>
            <p:nvPr/>
          </p:nvCxnSpPr>
          <p:spPr>
            <a:xfrm flipH="1" flipV="1" rot="10800000">
              <a:off x="4037400" y="2437200"/>
              <a:ext cx="2134440" cy="60840"/>
            </a:xfrm>
            <a:prstGeom prst="curvedConnector5">
              <a:avLst>
                <a:gd name="adj1" fmla="val -10711"/>
                <a:gd name="adj2" fmla="val -378571"/>
                <a:gd name="adj3" fmla="val -1071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0" name=""/>
            <p:cNvCxnSpPr>
              <a:stCxn id="333" idx="0"/>
              <a:endCxn id="338" idx="1"/>
            </p:cNvCxnSpPr>
            <p:nvPr/>
          </p:nvCxnSpPr>
          <p:spPr>
            <a:xfrm flipH="1" flipV="1" rot="5400000">
              <a:off x="3325680" y="1267920"/>
              <a:ext cx="1616400" cy="40773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41" name=""/>
          <p:cNvSpPr/>
          <p:nvPr/>
        </p:nvSpPr>
        <p:spPr>
          <a:xfrm>
            <a:off x="6400800" y="3200400"/>
            <a:ext cx="2286000" cy="838080"/>
          </a:xfrm>
          <a:prstGeom prst="rtTriangl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10800000">
            <a:off x="6400800" y="3200400"/>
            <a:ext cx="2286000" cy="838080"/>
          </a:xfrm>
          <a:prstGeom prst="rtTriangl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019920" y="3429000"/>
            <a:ext cx="1752120" cy="992880"/>
            <a:chOff x="6019920" y="3429000"/>
            <a:chExt cx="1752120" cy="992880"/>
          </a:xfrm>
        </p:grpSpPr>
        <p:sp>
          <p:nvSpPr>
            <p:cNvPr id="344" name=""/>
            <p:cNvSpPr/>
            <p:nvPr/>
          </p:nvSpPr>
          <p:spPr>
            <a:xfrm>
              <a:off x="6019920" y="34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91160" y="3962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1143000" y="4648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1 = 3 ( 7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/>
          <p:nvPr/>
        </p:nvCxnSpPr>
        <p:spPr>
          <a:xfrm flipV="1" rot="10800000">
            <a:off x="1142280" y="3733560"/>
            <a:ext cx="153000" cy="991080"/>
          </a:xfrm>
          <a:prstGeom prst="curvedConnector5">
            <a:avLst>
              <a:gd name="adj1" fmla="val 200943"/>
              <a:gd name="adj2" fmla="val 27797"/>
              <a:gd name="adj3" fmla="val 20094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8" name=""/>
          <p:cNvSpPr/>
          <p:nvPr/>
        </p:nvSpPr>
        <p:spPr>
          <a:xfrm>
            <a:off x="2895480" y="4648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=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43400" y="43434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2 = 5 ( 7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endCxn id="349" idx="1"/>
          </p:cNvCxnSpPr>
          <p:nvPr/>
        </p:nvCxnSpPr>
        <p:spPr>
          <a:xfrm flipH="1" rot="16200000">
            <a:off x="3335760" y="3596760"/>
            <a:ext cx="1251720" cy="7628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1" name=""/>
          <p:cNvSpPr/>
          <p:nvPr/>
        </p:nvSpPr>
        <p:spPr>
          <a:xfrm>
            <a:off x="6095880" y="43434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= 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/>
          <p:nvPr/>
        </p:nvCxnSpPr>
        <p:spPr>
          <a:xfrm flipH="1" rot="16200000">
            <a:off x="2421360" y="4358880"/>
            <a:ext cx="1251720" cy="7628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3505320" y="51814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3 = 4 ( 7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51814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= 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586728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A =      +      +      +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91320" y="579132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= 96 in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05120" y="586728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971800" y="58672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38480" y="58672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05520" y="586728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719280"/>
            <a:ext cx="9144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7.  The base of a rectangular prism is 3 in. by 5 in., and the height is 11 in. Draw and label a net for the prism. Find its surface area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480" y="4800600"/>
            <a:ext cx="914400" cy="685800"/>
          </a:xfrm>
          <a:prstGeom prst="rect">
            <a:avLst/>
          </a:prstGeom>
          <a:solidFill>
            <a:srgbClr val="ffcc99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2286000"/>
            <a:ext cx="914400" cy="685800"/>
          </a:xfrm>
          <a:prstGeom prst="rect">
            <a:avLst/>
          </a:prstGeom>
          <a:solidFill>
            <a:srgbClr val="ffcc99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2971800"/>
            <a:ext cx="914400" cy="1828800"/>
          </a:xfrm>
          <a:prstGeom prst="rect">
            <a:avLst/>
          </a:prstGeom>
          <a:solidFill>
            <a:srgbClr val="ffcc99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2971800"/>
            <a:ext cx="762120" cy="1828800"/>
          </a:xfrm>
          <a:prstGeom prst="rect">
            <a:avLst/>
          </a:prstGeom>
          <a:solidFill>
            <a:srgbClr val="ffcc99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0" y="2971800"/>
            <a:ext cx="914400" cy="1828800"/>
          </a:xfrm>
          <a:prstGeom prst="rect">
            <a:avLst/>
          </a:prstGeom>
          <a:solidFill>
            <a:srgbClr val="ffcc99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00400" y="2971800"/>
            <a:ext cx="685800" cy="1828800"/>
          </a:xfrm>
          <a:prstGeom prst="rect">
            <a:avLst/>
          </a:prstGeom>
          <a:solidFill>
            <a:srgbClr val="ffcc99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581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447920" y="4800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54864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0" y="4800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4800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2971800" y="5356080"/>
                <a:ext cx="48020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940040" y="6118200"/>
                <a:ext cx="58338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3201840" y="61182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7640" y="61182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3440" y="61182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83280" y="61182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21360" y="61182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07160" y="61182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4219560" y="2590920"/>
                <a:ext cx="45561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180040" y="3505320"/>
                <a:ext cx="25192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324400" y="4267080"/>
                <a:ext cx="27129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6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5410080" y="25909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77120" y="25909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25909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553080" y="35053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733920" y="2209680"/>
            <a:ext cx="1676160" cy="2743200"/>
            <a:chOff x="3733920" y="2209680"/>
            <a:chExt cx="1676160" cy="2743200"/>
          </a:xfrm>
        </p:grpSpPr>
        <p:sp>
          <p:nvSpPr>
            <p:cNvPr id="70" name=""/>
            <p:cNvSpPr/>
            <p:nvPr/>
          </p:nvSpPr>
          <p:spPr>
            <a:xfrm>
              <a:off x="3733920" y="2209680"/>
              <a:ext cx="1676160" cy="2743200"/>
            </a:xfrm>
            <a:prstGeom prst="can">
              <a:avLst>
                <a:gd name="adj" fmla="val 25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33920" y="4267080"/>
              <a:ext cx="1676160" cy="685800"/>
            </a:xfrm>
            <a:prstGeom prst="ellipse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572000" y="28954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2895480"/>
            <a:ext cx="4495680" cy="20574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733920" y="1295280"/>
            <a:ext cx="1600200" cy="5257800"/>
            <a:chOff x="3733920" y="1295280"/>
            <a:chExt cx="1600200" cy="5257800"/>
          </a:xfrm>
        </p:grpSpPr>
        <p:sp>
          <p:nvSpPr>
            <p:cNvPr id="75" name=""/>
            <p:cNvSpPr/>
            <p:nvPr/>
          </p:nvSpPr>
          <p:spPr>
            <a:xfrm>
              <a:off x="3733920" y="1295280"/>
              <a:ext cx="1600200" cy="1600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33920" y="4952880"/>
              <a:ext cx="1600200" cy="1600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57200" y="1219320"/>
            <a:ext cx="4495680" cy="5257800"/>
            <a:chOff x="457200" y="1219320"/>
            <a:chExt cx="4495680" cy="5257800"/>
          </a:xfrm>
        </p:grpSpPr>
        <p:sp>
          <p:nvSpPr>
            <p:cNvPr id="80" name=""/>
            <p:cNvSpPr/>
            <p:nvPr/>
          </p:nvSpPr>
          <p:spPr>
            <a:xfrm>
              <a:off x="457200" y="2819520"/>
              <a:ext cx="4495680" cy="205740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828800" y="1219320"/>
              <a:ext cx="1600200" cy="5257800"/>
              <a:chOff x="1828800" y="1219320"/>
              <a:chExt cx="1600200" cy="5257800"/>
            </a:xfrm>
          </p:grpSpPr>
          <p:sp>
            <p:nvSpPr>
              <p:cNvPr id="82" name=""/>
              <p:cNvSpPr/>
              <p:nvPr/>
            </p:nvSpPr>
            <p:spPr>
              <a:xfrm>
                <a:off x="1828800" y="1219320"/>
                <a:ext cx="1600200" cy="160020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828800" y="4876920"/>
                <a:ext cx="1600200" cy="160020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" name=""/>
          <p:cNvGrpSpPr/>
          <p:nvPr/>
        </p:nvGrpSpPr>
        <p:grpSpPr>
          <a:xfrm>
            <a:off x="2590920" y="1676520"/>
            <a:ext cx="838080" cy="520560"/>
            <a:chOff x="2590920" y="1676520"/>
            <a:chExt cx="838080" cy="520560"/>
          </a:xfrm>
        </p:grpSpPr>
        <p:sp>
          <p:nvSpPr>
            <p:cNvPr id="85" name=""/>
            <p:cNvSpPr/>
            <p:nvPr/>
          </p:nvSpPr>
          <p:spPr>
            <a:xfrm flipH="1">
              <a:off x="2590920" y="20574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16765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429000" y="1752480"/>
            <a:ext cx="5715000" cy="581400"/>
            <a:chOff x="3429000" y="1752480"/>
            <a:chExt cx="5715000" cy="581400"/>
          </a:xfrm>
        </p:grpSpPr>
        <p:sp>
          <p:nvSpPr>
            <p:cNvPr id="88" name=""/>
            <p:cNvSpPr/>
            <p:nvPr/>
          </p:nvSpPr>
          <p:spPr>
            <a:xfrm>
              <a:off x="5334120" y="17524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rea of circle =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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stCxn id="85" idx="0"/>
              <a:endCxn id="88" idx="1"/>
            </p:cNvCxnSpPr>
            <p:nvPr/>
          </p:nvCxnSpPr>
          <p:spPr>
            <a:xfrm flipV="1">
              <a:off x="3429000" y="2042640"/>
              <a:ext cx="1905840" cy="15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0" name=""/>
          <p:cNvGrpSpPr/>
          <p:nvPr/>
        </p:nvGrpSpPr>
        <p:grpSpPr>
          <a:xfrm>
            <a:off x="3429000" y="5410080"/>
            <a:ext cx="5715000" cy="581400"/>
            <a:chOff x="3429000" y="5410080"/>
            <a:chExt cx="5715000" cy="581400"/>
          </a:xfrm>
        </p:grpSpPr>
        <p:sp>
          <p:nvSpPr>
            <p:cNvPr id="91" name=""/>
            <p:cNvSpPr/>
            <p:nvPr/>
          </p:nvSpPr>
          <p:spPr>
            <a:xfrm>
              <a:off x="53341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rea of circle =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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" name=""/>
            <p:cNvCxnSpPr>
              <a:endCxn id="91" idx="1"/>
            </p:cNvCxnSpPr>
            <p:nvPr/>
          </p:nvCxnSpPr>
          <p:spPr>
            <a:xfrm flipV="1">
              <a:off x="3429000" y="5700240"/>
              <a:ext cx="1905840" cy="15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3" name=""/>
          <p:cNvGrpSpPr/>
          <p:nvPr/>
        </p:nvGrpSpPr>
        <p:grpSpPr>
          <a:xfrm>
            <a:off x="5181480" y="2743200"/>
            <a:ext cx="4419720" cy="2653560"/>
            <a:chOff x="5181480" y="2743200"/>
            <a:chExt cx="4419720" cy="2653560"/>
          </a:xfrm>
        </p:grpSpPr>
        <p:sp>
          <p:nvSpPr>
            <p:cNvPr id="94" name=""/>
            <p:cNvSpPr/>
            <p:nvPr/>
          </p:nvSpPr>
          <p:spPr>
            <a:xfrm>
              <a:off x="5181480" y="2743200"/>
              <a:ext cx="396252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rea of rectangle = l x w where the length is the circumference of the circle and the width is the height.    A = d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h or 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15200" y="43434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  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4419720" y="35053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615636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h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1" name="WHOOSH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295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surface area of the following fig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57200" y="1905120"/>
            <a:ext cx="4572000" cy="1983600"/>
            <a:chOff x="457200" y="1905120"/>
            <a:chExt cx="4572000" cy="1983600"/>
          </a:xfrm>
        </p:grpSpPr>
        <p:sp>
          <p:nvSpPr>
            <p:cNvPr id="102" name=""/>
            <p:cNvSpPr/>
            <p:nvPr/>
          </p:nvSpPr>
          <p:spPr>
            <a:xfrm>
              <a:off x="685800" y="2286000"/>
              <a:ext cx="3276720" cy="1219320"/>
            </a:xfrm>
            <a:custGeom>
              <a:avLst/>
              <a:gdLst/>
              <a:ahLst/>
              <a:rect l="l" t="t" r="r" b="b"/>
              <a:pathLst>
                <a:path w="2064" h="768">
                  <a:moveTo>
                    <a:pt x="0" y="768"/>
                  </a:moveTo>
                  <a:lnTo>
                    <a:pt x="1104" y="0"/>
                  </a:lnTo>
                  <a:lnTo>
                    <a:pt x="2064" y="0"/>
                  </a:lnTo>
                  <a:lnTo>
                    <a:pt x="960" y="768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5800" y="1981080"/>
              <a:ext cx="1752480" cy="152424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0" y="768"/>
                  </a:moveTo>
                  <a:lnTo>
                    <a:pt x="1104" y="0"/>
                  </a:lnTo>
                  <a:lnTo>
                    <a:pt x="1104" y="192"/>
                  </a:lnTo>
                  <a:lnTo>
                    <a:pt x="0" y="960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" y="3200400"/>
              <a:ext cx="1523880" cy="3049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1981080"/>
              <a:ext cx="1524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1981080"/>
              <a:ext cx="1752840" cy="152424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0" y="768"/>
                  </a:moveTo>
                  <a:lnTo>
                    <a:pt x="1104" y="0"/>
                  </a:lnTo>
                  <a:lnTo>
                    <a:pt x="1104" y="192"/>
                  </a:lnTo>
                  <a:lnTo>
                    <a:pt x="0" y="960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1981080"/>
              <a:ext cx="3276720" cy="1219320"/>
            </a:xfrm>
            <a:custGeom>
              <a:avLst/>
              <a:gdLst/>
              <a:ahLst/>
              <a:rect l="l" t="t" r="r" b="b"/>
              <a:pathLst>
                <a:path w="2064" h="768">
                  <a:moveTo>
                    <a:pt x="0" y="768"/>
                  </a:moveTo>
                  <a:lnTo>
                    <a:pt x="1104" y="0"/>
                  </a:lnTo>
                  <a:lnTo>
                    <a:pt x="2064" y="0"/>
                  </a:lnTo>
                  <a:lnTo>
                    <a:pt x="960" y="768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" y="1905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4290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71800" y="2743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6200" y="19051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267080" y="2590920"/>
                <a:ext cx="48024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309840" y="3429000"/>
                <a:ext cx="5834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343400" y="4267080"/>
                <a:ext cx="41544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103720" y="5181480"/>
                <a:ext cx="25192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181480" y="5943600"/>
                <a:ext cx="2845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572000" y="34290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34290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34290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34290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91520" y="34290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4290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2670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42670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91520" y="42670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51814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295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surface area of the following fig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09480" y="2133720"/>
            <a:ext cx="5639040" cy="1752480"/>
            <a:chOff x="609480" y="2133720"/>
            <a:chExt cx="5639040" cy="1752480"/>
          </a:xfrm>
        </p:grpSpPr>
        <p:sp>
          <p:nvSpPr>
            <p:cNvPr id="131" name=""/>
            <p:cNvSpPr/>
            <p:nvPr/>
          </p:nvSpPr>
          <p:spPr>
            <a:xfrm>
              <a:off x="1371600" y="2438280"/>
              <a:ext cx="3962520" cy="1447920"/>
            </a:xfrm>
            <a:prstGeom prst="can">
              <a:avLst>
                <a:gd name="adj" fmla="val 25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71600" y="3505320"/>
              <a:ext cx="3962520" cy="3808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2438280"/>
              <a:ext cx="3962520" cy="381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365760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57600" y="32004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 y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81480" y="281952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 y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9480" y="21337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981080" y="396252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h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464832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(   )(   )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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518148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(     )(      ) + (     )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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5257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5257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10280" y="52578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5257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586728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       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0" y="5867280"/>
            <a:ext cx="10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94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4120" y="586728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5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= 251.2 yd </a:t>
            </a:r>
            <a:r>
              <a:rPr b="1" lang="en-US" sz="3200" spc="-1" strike="noStrike" baseline="60000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295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surface area of the following fig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2280" y="1828800"/>
            <a:ext cx="5639040" cy="2593080"/>
            <a:chOff x="152280" y="1828800"/>
            <a:chExt cx="5639040" cy="2593080"/>
          </a:xfrm>
        </p:grpSpPr>
        <p:sp>
          <p:nvSpPr>
            <p:cNvPr id="156" name=""/>
            <p:cNvSpPr/>
            <p:nvPr/>
          </p:nvSpPr>
          <p:spPr>
            <a:xfrm>
              <a:off x="152280" y="33526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57200" y="1828800"/>
              <a:ext cx="5334120" cy="2593080"/>
              <a:chOff x="457200" y="1828800"/>
              <a:chExt cx="5334120" cy="2593080"/>
            </a:xfrm>
          </p:grpSpPr>
          <p:sp>
            <p:nvSpPr>
              <p:cNvPr id="158" name=""/>
              <p:cNvSpPr/>
              <p:nvPr/>
            </p:nvSpPr>
            <p:spPr>
              <a:xfrm>
                <a:off x="1143000" y="2895480"/>
                <a:ext cx="4648320" cy="1143000"/>
              </a:xfrm>
              <a:custGeom>
                <a:avLst/>
                <a:gdLst/>
                <a:ahLst/>
                <a:rect l="l" t="t" r="r" b="b"/>
                <a:pathLst>
                  <a:path w="2928" h="720">
                    <a:moveTo>
                      <a:pt x="0" y="720"/>
                    </a:moveTo>
                    <a:lnTo>
                      <a:pt x="1488" y="0"/>
                    </a:lnTo>
                    <a:lnTo>
                      <a:pt x="2928" y="0"/>
                    </a:lnTo>
                    <a:lnTo>
                      <a:pt x="1392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143000" y="3200400"/>
                <a:ext cx="2286000" cy="838080"/>
              </a:xfrm>
              <a:prstGeom prst="rtTriangle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505320" y="2057400"/>
                <a:ext cx="2286000" cy="838080"/>
              </a:xfrm>
              <a:prstGeom prst="rtTriangle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143000" y="2057400"/>
                <a:ext cx="2362320" cy="1981080"/>
              </a:xfrm>
              <a:custGeom>
                <a:avLst/>
                <a:gdLst/>
                <a:ahLst/>
                <a:rect l="l" t="t" r="r" b="b"/>
                <a:pathLst>
                  <a:path w="1488" h="1248">
                    <a:moveTo>
                      <a:pt x="0" y="1248"/>
                    </a:moveTo>
                    <a:lnTo>
                      <a:pt x="0" y="720"/>
                    </a:lnTo>
                    <a:lnTo>
                      <a:pt x="1488" y="0"/>
                    </a:lnTo>
                    <a:lnTo>
                      <a:pt x="1488" y="528"/>
                    </a:lnTo>
                    <a:lnTo>
                      <a:pt x="0" y="1248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143000" y="2057400"/>
                <a:ext cx="4648320" cy="1981080"/>
              </a:xfrm>
              <a:custGeom>
                <a:avLst/>
                <a:gdLst/>
                <a:ahLst/>
                <a:rect l="l" t="t" r="r" b="b"/>
                <a:pathLst>
                  <a:path w="2928" h="1248">
                    <a:moveTo>
                      <a:pt x="0" y="720"/>
                    </a:moveTo>
                    <a:lnTo>
                      <a:pt x="1488" y="0"/>
                    </a:lnTo>
                    <a:lnTo>
                      <a:pt x="2928" y="528"/>
                    </a:lnTo>
                    <a:lnTo>
                      <a:pt x="1392" y="1248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371600" y="396216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 f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219320" y="228600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 f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38480" y="205740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 f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7200" y="1828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2095560" y="1752480"/>
            <a:ext cx="6819840" cy="2209680"/>
            <a:chOff x="2095560" y="1752480"/>
            <a:chExt cx="6819840" cy="2209680"/>
          </a:xfrm>
        </p:grpSpPr>
        <p:sp>
          <p:nvSpPr>
            <p:cNvPr id="168" name=""/>
            <p:cNvSpPr/>
            <p:nvPr/>
          </p:nvSpPr>
          <p:spPr>
            <a:xfrm>
              <a:off x="6172200" y="175248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two right triangles will form a recta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>
              <a:stCxn id="165" idx="1"/>
              <a:endCxn id="168" idx="1"/>
            </p:cNvCxnSpPr>
            <p:nvPr/>
          </p:nvCxnSpPr>
          <p:spPr>
            <a:xfrm flipH="1" flipV="1" rot="10800000">
              <a:off x="4037400" y="2285640"/>
              <a:ext cx="2134440" cy="61200"/>
            </a:xfrm>
            <a:prstGeom prst="curvedConnector5">
              <a:avLst>
                <a:gd name="adj1" fmla="val -10711"/>
                <a:gd name="adj2" fmla="val -378698"/>
                <a:gd name="adj3" fmla="val -1071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3" idx="0"/>
              <a:endCxn id="168" idx="1"/>
            </p:cNvCxnSpPr>
            <p:nvPr/>
          </p:nvCxnSpPr>
          <p:spPr>
            <a:xfrm flipH="1" flipV="1" rot="5400000">
              <a:off x="3325680" y="1115640"/>
              <a:ext cx="1616760" cy="40773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1" name=""/>
          <p:cNvSpPr/>
          <p:nvPr/>
        </p:nvSpPr>
        <p:spPr>
          <a:xfrm>
            <a:off x="6400800" y="3048120"/>
            <a:ext cx="2286000" cy="838080"/>
          </a:xfrm>
          <a:prstGeom prst="rtTriangl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0800000">
            <a:off x="6400800" y="3048120"/>
            <a:ext cx="2286000" cy="838080"/>
          </a:xfrm>
          <a:prstGeom prst="rtTriangl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019920" y="3276720"/>
            <a:ext cx="1752120" cy="992880"/>
            <a:chOff x="6019920" y="3276720"/>
            <a:chExt cx="1752120" cy="992880"/>
          </a:xfrm>
        </p:grpSpPr>
        <p:sp>
          <p:nvSpPr>
            <p:cNvPr id="174" name=""/>
            <p:cNvSpPr/>
            <p:nvPr/>
          </p:nvSpPr>
          <p:spPr>
            <a:xfrm>
              <a:off x="6019920" y="3276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9116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143000" y="4495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1 = 3 ( 8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/>
          <p:nvPr/>
        </p:nvCxnSpPr>
        <p:spPr>
          <a:xfrm flipV="1" rot="10800000">
            <a:off x="1142280" y="3580920"/>
            <a:ext cx="153000" cy="991440"/>
          </a:xfrm>
          <a:prstGeom prst="curvedConnector5">
            <a:avLst>
              <a:gd name="adj1" fmla="val 200943"/>
              <a:gd name="adj2" fmla="val 27787"/>
              <a:gd name="adj3" fmla="val 20094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2895480" y="4495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=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4191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2 = 5 ( 8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endCxn id="179" idx="1"/>
          </p:cNvCxnSpPr>
          <p:nvPr/>
        </p:nvCxnSpPr>
        <p:spPr>
          <a:xfrm flipH="1" rot="16200000">
            <a:off x="3335760" y="3444480"/>
            <a:ext cx="1251720" cy="7628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6095880" y="4191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= 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 flipH="1" rot="16200000">
            <a:off x="2421360" y="4206600"/>
            <a:ext cx="1251720" cy="7628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3505320" y="5029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3 = 4 ( 8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5029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= 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571500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A =      +      +      +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563868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= 108 ft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571500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57150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57150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571500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71928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the space figure represented by each net, find the surface area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828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09680" y="48769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1676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2209680"/>
            <a:ext cx="266724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95280" y="2895480"/>
            <a:ext cx="266724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3581280"/>
            <a:ext cx="266724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4267080"/>
            <a:ext cx="266724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2209680"/>
            <a:ext cx="68580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2209680"/>
            <a:ext cx="68580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209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2895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3581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43434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031760" y="5356080"/>
                <a:ext cx="48024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0" y="6118200"/>
                <a:ext cx="5834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600440" y="2971800"/>
                <a:ext cx="45561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560920" y="3886200"/>
                <a:ext cx="25192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618160" y="4648320"/>
                <a:ext cx="28875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7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1262160" y="6118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47960" y="6118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33760" y="6118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43240" y="61182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1320" y="61182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67120" y="611820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91320" y="2971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0" y="2971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77320" y="2971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34320" y="38862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3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700"/>
                            </p:stCondLst>
                            <p:childTnLst>
                              <p:par>
                                <p:cTn id="429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4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71928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the space figure represented by each net, find the surface area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828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 y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2514600"/>
            <a:ext cx="266724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590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y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3200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7.7 y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1752480"/>
            <a:ext cx="762120" cy="76212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3200400"/>
            <a:ext cx="762120" cy="76212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2133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24" idx="0"/>
          </p:cNvCxnSpPr>
          <p:nvPr/>
        </p:nvCxnSpPr>
        <p:spPr>
          <a:xfrm flipH="1" rot="16200000">
            <a:off x="2476440" y="1294200"/>
            <a:ext cx="153000" cy="1372320"/>
          </a:xfrm>
          <a:prstGeom prst="curvedConnector5">
            <a:avLst>
              <a:gd name="adj1" fmla="val -150000"/>
              <a:gd name="adj2" fmla="val 49986"/>
              <a:gd name="adj3" fmla="val -1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1981080" y="396252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w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81080" y="464832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(    )(       )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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4724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7.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7712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51814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(     ) + (     )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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5257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7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5257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5257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586728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       +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40800" y="586728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7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49040" y="586728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2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62720" y="58672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= 603 yd </a:t>
            </a:r>
            <a:r>
              <a:rPr b="1" lang="en-US" sz="3200" spc="-1" strike="noStrike" baseline="60000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71928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the space figure represented by each net, find the surface area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828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48769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1676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2209680"/>
            <a:ext cx="2667240" cy="8384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3048120"/>
            <a:ext cx="2667240" cy="5331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3581280"/>
            <a:ext cx="2667240" cy="8384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95280" y="4419720"/>
            <a:ext cx="2667240" cy="5331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2209680"/>
            <a:ext cx="685800" cy="8384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209680"/>
            <a:ext cx="685800" cy="8384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2209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2971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37339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031760" y="5356080"/>
                <a:ext cx="48024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0" y="6118200"/>
                <a:ext cx="5834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600440" y="2971800"/>
                <a:ext cx="45561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560920" y="3886200"/>
                <a:ext cx="25192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618160" y="4648320"/>
                <a:ext cx="28875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1262160" y="6118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7960" y="6118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33760" y="6118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43240" y="61182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81320" y="61182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67120" y="611820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1320" y="2971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2971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77320" y="2971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7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34320" y="38862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0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4-03-22T13:38:24Z</dcterms:modified>
  <cp:revision>34</cp:revision>
  <dc:subject/>
  <dc:title>No Slide Title</dc:title>
</cp:coreProperties>
</file>